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560B-6E05-456A-A582-17D2687D6176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9224-8012-4298-ACD4-4B1EA5FB6AE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BC35-A843-44E6-817D-8563C4144F0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2C31-1981-4FFC-B121-0B125259D31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485A-7F43-4A46-B70C-943E9DE569C1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B0B-000F-443D-84E7-A7F1C518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BF2-6904-449B-B317-27A83E1B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4AC-DF34-4BB2-8215-85EFEF06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491-2793-4308-A9CE-C50C06C2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24A-1E57-427B-A90B-7E5D7E8B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8D0-5D45-4483-BBBF-264FFC3D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246-67B7-40BC-BE52-D21B2F11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0C3-4F97-40BD-8B86-5FF1AB85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A9D-C207-45BF-B01B-77117282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BA4-247F-426F-B030-F30D0BF0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4D6-C588-4A8E-8735-F727BB8E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E2E-C68E-4EBC-BB51-04D3CCD0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D9EE-D37B-44B9-A652-4F39ED77158B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평행 사변형 3"/>
          <p:cNvSpPr/>
          <p:nvPr/>
        </p:nvSpPr>
        <p:spPr>
          <a:xfrm>
            <a:off x="1425600" y="612720"/>
            <a:ext cx="10588680" cy="127080"/>
          </a:xfrm>
          <a:prstGeom prst="parallelogram">
            <a:avLst>
              <a:gd name="adj" fmla="val -11540"/>
            </a:avLst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27080" y="236520"/>
            <a:ext cx="15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3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바닥글 개체 틀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주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3R-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슬라이드 번호 개체 틀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AC3D-88A3-4F0D-A13C-D6FFD69CD411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406160" y="29376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 INSTALL &amp; SE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82080" y="66600"/>
          <a:ext cx="1905120" cy="5461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171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작  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검  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승  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54" name="그림 2" descr=""/>
          <p:cNvPicPr/>
          <p:nvPr/>
        </p:nvPicPr>
        <p:blipFill>
          <a:blip r:embed="rId1"/>
          <a:stretch/>
        </p:blipFill>
        <p:spPr>
          <a:xfrm>
            <a:off x="1400040" y="1593720"/>
            <a:ext cx="819360" cy="7714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9"/>
          <p:cNvSpPr/>
          <p:nvPr/>
        </p:nvSpPr>
        <p:spPr>
          <a:xfrm>
            <a:off x="958680" y="1316160"/>
            <a:ext cx="45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rom FTP, Download a recovery program and Install the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958680" y="2719440"/>
            <a:ext cx="426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nsert a license key (Please check your ema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그림 7" descr=""/>
          <p:cNvPicPr/>
          <p:nvPr/>
        </p:nvPicPr>
        <p:blipFill>
          <a:blip r:embed="rId2"/>
          <a:stretch/>
        </p:blipFill>
        <p:spPr>
          <a:xfrm>
            <a:off x="1400040" y="299736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평행 사변형 3"/>
          <p:cNvSpPr/>
          <p:nvPr/>
        </p:nvSpPr>
        <p:spPr>
          <a:xfrm>
            <a:off x="1425600" y="612720"/>
            <a:ext cx="10588680" cy="127080"/>
          </a:xfrm>
          <a:prstGeom prst="parallelogram">
            <a:avLst>
              <a:gd name="adj" fmla="val -11540"/>
            </a:avLst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27080" y="236520"/>
            <a:ext cx="15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3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바닥글 개체 틀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주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3R-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슬라이드 번호 개체 틀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1234-B9E1-4CAE-A028-CCB479CB2387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1421640" y="29376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HARD DISK Drive(HDD) TO RECOV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82080" y="66600"/>
          <a:ext cx="1905120" cy="5461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171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작  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검  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승  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64" name="그림 1" descr=""/>
          <p:cNvPicPr/>
          <p:nvPr/>
        </p:nvPicPr>
        <p:blipFill>
          <a:blip r:embed="rId1"/>
          <a:stretch/>
        </p:blipFill>
        <p:spPr>
          <a:xfrm>
            <a:off x="2413080" y="1090440"/>
            <a:ext cx="7365960" cy="4915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9"/>
          <p:cNvSpPr/>
          <p:nvPr/>
        </p:nvSpPr>
        <p:spPr>
          <a:xfrm>
            <a:off x="441360" y="1720800"/>
            <a:ext cx="25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physical HD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hoose HDD to rec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직사각형 2"/>
          <p:cNvSpPr/>
          <p:nvPr/>
        </p:nvSpPr>
        <p:spPr>
          <a:xfrm>
            <a:off x="436680" y="1711440"/>
            <a:ext cx="4456080" cy="949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평행 사변형 3"/>
          <p:cNvSpPr/>
          <p:nvPr/>
        </p:nvSpPr>
        <p:spPr>
          <a:xfrm>
            <a:off x="1425600" y="612720"/>
            <a:ext cx="10588680" cy="127080"/>
          </a:xfrm>
          <a:prstGeom prst="parallelogram">
            <a:avLst>
              <a:gd name="adj" fmla="val -11540"/>
            </a:avLst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27080" y="236520"/>
            <a:ext cx="15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3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바닥글 개체 틀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주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3R-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슬라이드 번호 개체 틀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A33F-6087-431A-B2B2-A15B251158DF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1408320" y="29376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HE PARTITION IS ERAS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982080" y="66600"/>
          <a:ext cx="1905120" cy="5461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171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작  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검  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승  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73" name="그림 2" descr=""/>
          <p:cNvPicPr/>
          <p:nvPr/>
        </p:nvPicPr>
        <p:blipFill>
          <a:blip r:embed="rId1"/>
          <a:stretch/>
        </p:blipFill>
        <p:spPr>
          <a:xfrm>
            <a:off x="1425600" y="1332000"/>
            <a:ext cx="7043760" cy="2700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9"/>
          <p:cNvSpPr/>
          <p:nvPr/>
        </p:nvSpPr>
        <p:spPr>
          <a:xfrm>
            <a:off x="932040" y="1058760"/>
            <a:ext cx="736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cover partition, right-click on the list and Select ‘Find lost partition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직사각형 7"/>
          <p:cNvSpPr/>
          <p:nvPr/>
        </p:nvSpPr>
        <p:spPr>
          <a:xfrm>
            <a:off x="3449520" y="2689200"/>
            <a:ext cx="117792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960480" y="3414600"/>
            <a:ext cx="549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Click ‘Find now menu’ and check LINUX JFS &amp; SGI XFS then click the ‘ok’ but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그림 8" descr=""/>
          <p:cNvPicPr/>
          <p:nvPr/>
        </p:nvPicPr>
        <p:blipFill>
          <a:blip r:embed="rId2"/>
          <a:stretch/>
        </p:blipFill>
        <p:spPr>
          <a:xfrm>
            <a:off x="1400040" y="3691080"/>
            <a:ext cx="2946600" cy="2454120"/>
          </a:xfrm>
          <a:prstGeom prst="rect">
            <a:avLst/>
          </a:prstGeom>
          <a:ln w="0">
            <a:noFill/>
          </a:ln>
        </p:spPr>
      </p:pic>
      <p:pic>
        <p:nvPicPr>
          <p:cNvPr id="78" name="그림 9" descr=""/>
          <p:cNvPicPr/>
          <p:nvPr/>
        </p:nvPicPr>
        <p:blipFill>
          <a:blip r:embed="rId3"/>
          <a:stretch/>
        </p:blipFill>
        <p:spPr>
          <a:xfrm>
            <a:off x="5014800" y="3691080"/>
            <a:ext cx="1970280" cy="24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평행 사변형 3"/>
          <p:cNvSpPr/>
          <p:nvPr/>
        </p:nvSpPr>
        <p:spPr>
          <a:xfrm>
            <a:off x="1425600" y="612720"/>
            <a:ext cx="10588680" cy="127080"/>
          </a:xfrm>
          <a:prstGeom prst="parallelogram">
            <a:avLst>
              <a:gd name="adj" fmla="val -11540"/>
            </a:avLst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27080" y="236520"/>
            <a:ext cx="15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3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바닥글 개체 틀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주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3R-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슬라이드 번호 개체 틀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1C6D-87FA-43F5-91D7-04D87FDF72BD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982080" y="66600"/>
          <a:ext cx="1905120" cy="5461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171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작  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검  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승  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84" name="그림 1" descr=""/>
          <p:cNvPicPr/>
          <p:nvPr/>
        </p:nvPicPr>
        <p:blipFill>
          <a:blip r:embed="rId1"/>
          <a:stretch/>
        </p:blipFill>
        <p:spPr>
          <a:xfrm>
            <a:off x="1400040" y="1521000"/>
            <a:ext cx="6648480" cy="2276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1406520" y="29376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LORE FI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932040" y="1058760"/>
            <a:ext cx="736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file, right-click on the partition se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‘Explore file system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그림 14" descr=""/>
          <p:cNvPicPr/>
          <p:nvPr/>
        </p:nvPicPr>
        <p:blipFill>
          <a:blip r:embed="rId2"/>
          <a:stretch/>
        </p:blipFill>
        <p:spPr>
          <a:xfrm>
            <a:off x="1392120" y="4211640"/>
            <a:ext cx="6656400" cy="2141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9"/>
          <p:cNvSpPr/>
          <p:nvPr/>
        </p:nvSpPr>
        <p:spPr>
          <a:xfrm>
            <a:off x="932040" y="3865680"/>
            <a:ext cx="736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Select the files you want to recover and right-click on the file then click  ‘copy to…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59:25Z</dcterms:created>
  <dc:creator>jisung jung</dc:creator>
  <dc:description/>
  <dc:language>en-US</dc:language>
  <cp:lastModifiedBy>Registered User</cp:lastModifiedBy>
  <dcterms:modified xsi:type="dcterms:W3CDTF">2013-10-13T04:30:39Z</dcterms:modified>
  <cp:revision>60</cp:revision>
  <dc:subject/>
  <dc:title>PowerPoint 프레젠테이션</dc:title>
</cp:coreProperties>
</file>