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2CA7CE7-E6B1-4005-9B5F-F1953E317CB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5DA6C3D-AED7-4B68-B10B-CE848E69D434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CD42ADB-F2A1-4C62-A12D-26B3FEAD59A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CCE07BA-A6B4-4BCD-B91C-00F90783B574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1A441C9-6D7F-492F-87DB-054A5CF14E7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B6881AD-13B8-485C-B3A7-1878C1B6871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88B1DFC-56B5-48B1-A836-ABC5552D6ED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C6E8575-4C2C-4DD3-8A09-3328651F4CF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66A0-977D-4F38-8241-A388A2D1C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5444-0F01-417E-A787-175733696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6E58-8F5E-4386-98EC-E7A6BC082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638F-748A-4600-999C-991F799AB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7ED1-CBB2-45FB-AC26-77174F800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C734-9CD4-4FE9-9E2E-F94AAC480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29F0-1813-4CE4-9337-933D85D23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019B-3C3F-4F68-A2CC-B2B154273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0C2F-3A61-4A55-8877-2418D34AF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1939-37AB-4F6C-AE29-A31AB057C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60D2-CDDA-41BA-87D6-84F1450E1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9DD5-F0A3-492F-B5D6-590557C24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4BA7-15E1-4C4C-B2A0-3FB9A37C4BD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9"/>
          <p:cNvSpPr/>
          <p:nvPr/>
        </p:nvSpPr>
        <p:spPr>
          <a:xfrm>
            <a:off x="1219320" y="6426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.servntec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TextBox 14"/>
          <p:cNvSpPr/>
          <p:nvPr/>
        </p:nvSpPr>
        <p:spPr>
          <a:xfrm>
            <a:off x="7326360" y="187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 Gu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        HD Board install Gu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6EBC-7BF5-4E6F-A36B-0AEDB76007A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735120" y="781200"/>
            <a:ext cx="32194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그림 10" descr="p6t-se.jpg"/>
          <p:cNvPicPr/>
          <p:nvPr/>
        </p:nvPicPr>
        <p:blipFill>
          <a:blip r:embed="rId1"/>
          <a:stretch/>
        </p:blipFill>
        <p:spPr>
          <a:xfrm>
            <a:off x="5168880" y="2168640"/>
            <a:ext cx="2262240" cy="22190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2" descr="HP3000.jpg"/>
          <p:cNvPicPr/>
          <p:nvPr/>
        </p:nvPicPr>
        <p:blipFill>
          <a:blip r:embed="rId2"/>
          <a:stretch/>
        </p:blipFill>
        <p:spPr>
          <a:xfrm rot="1418400">
            <a:off x="8073720" y="1771200"/>
            <a:ext cx="1233360" cy="962280"/>
          </a:xfrm>
          <a:prstGeom prst="rect">
            <a:avLst/>
          </a:prstGeom>
          <a:ln w="0">
            <a:noFill/>
          </a:ln>
        </p:spPr>
      </p:pic>
      <p:cxnSp>
        <p:nvCxnSpPr>
          <p:cNvPr id="114" name="직선 화살표 연결선 14"/>
          <p:cNvCxnSpPr/>
          <p:nvPr/>
        </p:nvCxnSpPr>
        <p:spPr>
          <a:xfrm flipV="1">
            <a:off x="7675920" y="4784400"/>
            <a:ext cx="25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오른쪽 화살표 15"/>
          <p:cNvSpPr/>
          <p:nvPr/>
        </p:nvSpPr>
        <p:spPr>
          <a:xfrm rot="15133800">
            <a:off x="6429240" y="3671280"/>
            <a:ext cx="1251000" cy="3873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오른쪽 화살표 16"/>
          <p:cNvSpPr/>
          <p:nvPr/>
        </p:nvSpPr>
        <p:spPr>
          <a:xfrm rot="8967600">
            <a:off x="7016400" y="2420640"/>
            <a:ext cx="1101600" cy="3776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사각형 설명선 18"/>
          <p:cNvSpPr/>
          <p:nvPr/>
        </p:nvSpPr>
        <p:spPr>
          <a:xfrm>
            <a:off x="7632720" y="3465360"/>
            <a:ext cx="1319040" cy="301680"/>
          </a:xfrm>
          <a:prstGeom prst="wedgeRectCallout">
            <a:avLst>
              <a:gd name="adj1" fmla="val -73009"/>
              <a:gd name="adj2" fmla="val -257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Install </a:t>
            </a:r>
            <a:r>
              <a:rPr b="0" lang="ko-KR" sz="1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Express 16 Slo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그림 13" descr="ST64004.jpg"/>
          <p:cNvPicPr/>
          <p:nvPr/>
        </p:nvPicPr>
        <p:blipFill>
          <a:blip r:embed="rId3"/>
          <a:stretch/>
        </p:blipFill>
        <p:spPr>
          <a:xfrm>
            <a:off x="7031160" y="4471920"/>
            <a:ext cx="134136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왼쪽 화살표 15"/>
          <p:cNvSpPr/>
          <p:nvPr/>
        </p:nvSpPr>
        <p:spPr>
          <a:xfrm>
            <a:off x="8251920" y="4365720"/>
            <a:ext cx="1197000" cy="7142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C  Pow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8436960" y="29401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.264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7497360" y="53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" y="2011320"/>
          <a:ext cx="4516560" cy="2773440"/>
        </p:xfrm>
        <a:graphic>
          <a:graphicData uri="http://schemas.openxmlformats.org/drawingml/2006/table">
            <a:tbl>
              <a:tblPr/>
              <a:tblGrid>
                <a:gridCol w="827280"/>
                <a:gridCol w="2792520"/>
                <a:gridCol w="896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l® Core i5-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sus P7P55D-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TI HD4350 256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Non-ECC DDR3 DIMMs 2G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SATA 1TB 32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indows 7 32bi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XP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23"/>
          <p:cNvSpPr/>
          <p:nvPr/>
        </p:nvSpPr>
        <p:spPr>
          <a:xfrm>
            <a:off x="643680" y="163656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 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547600" y="1682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ard Instal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7176-F32E-4193-8BD8-35648CCEB88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00280" y="768240"/>
            <a:ext cx="271908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974960"/>
          <a:ext cx="8142480" cy="386712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1109520"/>
                <a:gridCol w="1087560"/>
                <a:gridCol w="1036440"/>
                <a:gridCol w="1008360"/>
                <a:gridCol w="1082520"/>
                <a:gridCol w="1130400"/>
              </a:tblGrid>
              <a:tr h="27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4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2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1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4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H.2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a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-S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80 30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20 60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D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9" name="그림 13" descr="ST64004.jpg"/>
          <p:cNvPicPr/>
          <p:nvPr/>
        </p:nvPicPr>
        <p:blipFill>
          <a:blip r:embed="rId1"/>
          <a:stretch/>
        </p:blipFill>
        <p:spPr>
          <a:xfrm>
            <a:off x="2646360" y="2349360"/>
            <a:ext cx="7779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2" descr="HP3000.jpg"/>
          <p:cNvPicPr/>
          <p:nvPr/>
        </p:nvPicPr>
        <p:blipFill>
          <a:blip r:embed="rId2"/>
          <a:srcRect l="0" t="10289" r="0" b="0"/>
          <a:stretch/>
        </p:blipFill>
        <p:spPr>
          <a:xfrm>
            <a:off x="2610000" y="3137040"/>
            <a:ext cx="62532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2" descr="HP3000.jpg"/>
          <p:cNvPicPr/>
          <p:nvPr/>
        </p:nvPicPr>
        <p:blipFill>
          <a:blip r:embed="rId3"/>
          <a:srcRect l="0" t="13196" r="0" b="0"/>
          <a:stretch/>
        </p:blipFill>
        <p:spPr>
          <a:xfrm rot="21394800">
            <a:off x="2924280" y="3425400"/>
            <a:ext cx="5839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3" descr="ST64004.jpg"/>
          <p:cNvPicPr/>
          <p:nvPr/>
        </p:nvPicPr>
        <p:blipFill>
          <a:blip r:embed="rId4"/>
          <a:stretch/>
        </p:blipFill>
        <p:spPr>
          <a:xfrm>
            <a:off x="3852720" y="237168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13" descr="ST64004.jpg"/>
          <p:cNvPicPr/>
          <p:nvPr/>
        </p:nvPicPr>
        <p:blipFill>
          <a:blip r:embed="rId5"/>
          <a:stretch/>
        </p:blipFill>
        <p:spPr>
          <a:xfrm>
            <a:off x="4832280" y="238284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3" descr="ST64004.jpg"/>
          <p:cNvPicPr/>
          <p:nvPr/>
        </p:nvPicPr>
        <p:blipFill>
          <a:blip r:embed="rId6"/>
          <a:stretch/>
        </p:blipFill>
        <p:spPr>
          <a:xfrm>
            <a:off x="5952960" y="2276640"/>
            <a:ext cx="57312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3" descr="ST64004.jpg"/>
          <p:cNvPicPr/>
          <p:nvPr/>
        </p:nvPicPr>
        <p:blipFill>
          <a:blip r:embed="rId7"/>
          <a:stretch/>
        </p:blipFill>
        <p:spPr>
          <a:xfrm>
            <a:off x="5942160" y="2629080"/>
            <a:ext cx="606240" cy="40932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2" descr="HP3000.jpg"/>
          <p:cNvPicPr/>
          <p:nvPr/>
        </p:nvPicPr>
        <p:blipFill>
          <a:blip r:embed="rId8"/>
          <a:srcRect l="0" t="13196" r="0" b="0"/>
          <a:stretch/>
        </p:blipFill>
        <p:spPr>
          <a:xfrm rot="1418400">
            <a:off x="3906360" y="3333600"/>
            <a:ext cx="58284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2" descr="HP3000.jpg"/>
          <p:cNvPicPr/>
          <p:nvPr/>
        </p:nvPicPr>
        <p:blipFill>
          <a:blip r:embed="rId9"/>
          <a:srcRect l="0" t="10289" r="0" b="0"/>
          <a:stretch/>
        </p:blipFill>
        <p:spPr>
          <a:xfrm>
            <a:off x="6846840" y="3168720"/>
            <a:ext cx="627120" cy="436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12" descr="HP3000.jpg"/>
          <p:cNvPicPr/>
          <p:nvPr/>
        </p:nvPicPr>
        <p:blipFill>
          <a:blip r:embed="rId10"/>
          <a:srcRect l="0" t="10289" r="0" b="0"/>
          <a:stretch/>
        </p:blipFill>
        <p:spPr>
          <a:xfrm>
            <a:off x="7153200" y="3446640"/>
            <a:ext cx="6256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12" descr="HP3000.jpg"/>
          <p:cNvPicPr/>
          <p:nvPr/>
        </p:nvPicPr>
        <p:blipFill>
          <a:blip r:embed="rId11"/>
          <a:srcRect l="0" t="10286" r="0" b="0"/>
          <a:stretch/>
        </p:blipFill>
        <p:spPr>
          <a:xfrm>
            <a:off x="8099280" y="3254400"/>
            <a:ext cx="706680" cy="495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3"/>
          <p:cNvSpPr/>
          <p:nvPr/>
        </p:nvSpPr>
        <p:spPr>
          <a:xfrm>
            <a:off x="861120" y="15271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C3DF-12C9-421F-AE82-8FFD746020E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30160" y="7095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ation before Program Install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9560" y="1535040"/>
            <a:ext cx="5830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.  OS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ll  (XP, Win7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 (Mother b’d,  VGA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.  Resolution Setup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024X768 32bi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.  disable Setup Screen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. Install DVR boar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259"/>
          <p:cNvSpPr/>
          <p:nvPr/>
        </p:nvSpPr>
        <p:spPr>
          <a:xfrm>
            <a:off x="1224000" y="1865160"/>
            <a:ext cx="5040360" cy="70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Please partition HDD on installing O/S.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Uses can not make &lt;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MAGEDB&gt;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n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, so can not save this in 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Recommend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O/S size:  More than 20GB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21" descr="3.jpg"/>
          <p:cNvPicPr/>
          <p:nvPr/>
        </p:nvPicPr>
        <p:blipFill>
          <a:blip r:embed="rId1"/>
          <a:stretch/>
        </p:blipFill>
        <p:spPr>
          <a:xfrm>
            <a:off x="3346560" y="1689120"/>
            <a:ext cx="2039760" cy="1444680"/>
          </a:xfrm>
          <a:prstGeom prst="rect">
            <a:avLst/>
          </a:prstGeom>
          <a:ln w="0">
            <a:noFill/>
          </a:ln>
        </p:spPr>
      </p:pic>
      <p:sp>
        <p:nvSpPr>
          <p:cNvPr id="147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A487-C31F-4BAD-B7F8-16536BC807F2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그림 5" descr="2.jpg"/>
          <p:cNvPicPr/>
          <p:nvPr/>
        </p:nvPicPr>
        <p:blipFill>
          <a:blip r:embed="rId2"/>
          <a:stretch/>
        </p:blipFill>
        <p:spPr>
          <a:xfrm>
            <a:off x="1585800" y="1693800"/>
            <a:ext cx="1629000" cy="1435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7" descr="4.jpg"/>
          <p:cNvPicPr/>
          <p:nvPr/>
        </p:nvPicPr>
        <p:blipFill>
          <a:blip r:embed="rId3"/>
          <a:stretch/>
        </p:blipFill>
        <p:spPr>
          <a:xfrm>
            <a:off x="5483160" y="1690560"/>
            <a:ext cx="1954440" cy="146556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8" descr="5.jpg"/>
          <p:cNvPicPr/>
          <p:nvPr/>
        </p:nvPicPr>
        <p:blipFill>
          <a:blip r:embed="rId4"/>
          <a:stretch/>
        </p:blipFill>
        <p:spPr>
          <a:xfrm>
            <a:off x="7559640" y="1719360"/>
            <a:ext cx="183204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9" descr="6.jpg"/>
          <p:cNvPicPr/>
          <p:nvPr/>
        </p:nvPicPr>
        <p:blipFill>
          <a:blip r:embed="rId5"/>
          <a:stretch/>
        </p:blipFill>
        <p:spPr>
          <a:xfrm>
            <a:off x="3338640" y="3429000"/>
            <a:ext cx="1974600" cy="114768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0" descr="7.jpg"/>
          <p:cNvPicPr/>
          <p:nvPr/>
        </p:nvPicPr>
        <p:blipFill>
          <a:blip r:embed="rId6"/>
          <a:srcRect l="19312" t="29389" r="15856" b="5955"/>
          <a:stretch/>
        </p:blipFill>
        <p:spPr>
          <a:xfrm>
            <a:off x="1542960" y="3429000"/>
            <a:ext cx="1633680" cy="87480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1" descr="8.jpg"/>
          <p:cNvPicPr/>
          <p:nvPr/>
        </p:nvPicPr>
        <p:blipFill>
          <a:blip r:embed="rId7"/>
          <a:stretch/>
        </p:blipFill>
        <p:spPr>
          <a:xfrm>
            <a:off x="5494320" y="3429000"/>
            <a:ext cx="1967040" cy="112536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2" descr="9.jpg"/>
          <p:cNvPicPr/>
          <p:nvPr/>
        </p:nvPicPr>
        <p:blipFill>
          <a:blip r:embed="rId8"/>
          <a:stretch/>
        </p:blipFill>
        <p:spPr>
          <a:xfrm>
            <a:off x="1550880" y="4856040"/>
            <a:ext cx="1557360" cy="6318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13" descr="10.jpg"/>
          <p:cNvPicPr/>
          <p:nvPr/>
        </p:nvPicPr>
        <p:blipFill>
          <a:blip r:embed="rId9"/>
          <a:stretch/>
        </p:blipFill>
        <p:spPr>
          <a:xfrm>
            <a:off x="3349800" y="4809960"/>
            <a:ext cx="1758600" cy="134784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14" descr="11.jpg"/>
          <p:cNvPicPr/>
          <p:nvPr/>
        </p:nvPicPr>
        <p:blipFill>
          <a:blip r:embed="rId10"/>
          <a:stretch/>
        </p:blipFill>
        <p:spPr>
          <a:xfrm>
            <a:off x="5540400" y="4844880"/>
            <a:ext cx="179064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15" descr="12.jpg"/>
          <p:cNvPicPr/>
          <p:nvPr/>
        </p:nvPicPr>
        <p:blipFill>
          <a:blip r:embed="rId11"/>
          <a:stretch/>
        </p:blipFill>
        <p:spPr>
          <a:xfrm>
            <a:off x="7642080" y="4800600"/>
            <a:ext cx="1847880" cy="1415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274680" y="1728720"/>
            <a:ext cx="116028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1 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168120" y="4842000"/>
            <a:ext cx="1332000" cy="459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2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gram Install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374920" y="24987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3973680" y="1959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6031080" y="195120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8062920" y="21448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7877160" y="25844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무제1"/>
          <p:cNvPicPr/>
          <p:nvPr/>
        </p:nvPicPr>
        <p:blipFill>
          <a:blip r:embed="rId17">
            <a:lum contrast="18000"/>
          </a:blip>
          <a:stretch/>
        </p:blipFill>
        <p:spPr>
          <a:xfrm rot="283200">
            <a:off x="4535640" y="42022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무제1"/>
          <p:cNvPicPr/>
          <p:nvPr/>
        </p:nvPicPr>
        <p:blipFill>
          <a:blip r:embed="rId18">
            <a:lum contrast="18000"/>
          </a:blip>
          <a:stretch/>
        </p:blipFill>
        <p:spPr>
          <a:xfrm rot="283200">
            <a:off x="6696000" y="4202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무제1"/>
          <p:cNvPicPr/>
          <p:nvPr/>
        </p:nvPicPr>
        <p:blipFill>
          <a:blip r:embed="rId19">
            <a:lum contrast="18000"/>
          </a:blip>
          <a:stretch/>
        </p:blipFill>
        <p:spPr>
          <a:xfrm rot="283200">
            <a:off x="4535640" y="59785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무제1"/>
          <p:cNvPicPr/>
          <p:nvPr/>
        </p:nvPicPr>
        <p:blipFill>
          <a:blip r:embed="rId20">
            <a:lum contrast="18000"/>
          </a:blip>
          <a:stretch/>
        </p:blipFill>
        <p:spPr>
          <a:xfrm rot="283200">
            <a:off x="6881760" y="6087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무제1"/>
          <p:cNvPicPr/>
          <p:nvPr/>
        </p:nvPicPr>
        <p:blipFill>
          <a:blip r:embed="rId21">
            <a:lum contrast="18000"/>
          </a:blip>
          <a:stretch/>
        </p:blipFill>
        <p:spPr>
          <a:xfrm rot="283200">
            <a:off x="8928000" y="60357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무제1"/>
          <p:cNvPicPr/>
          <p:nvPr/>
        </p:nvPicPr>
        <p:blipFill>
          <a:blip r:embed="rId22">
            <a:lum contrast="18000"/>
          </a:blip>
          <a:stretch/>
        </p:blipFill>
        <p:spPr>
          <a:xfrm rot="283200">
            <a:off x="7961400" y="537516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8663040" y="2181240"/>
            <a:ext cx="100152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Mode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4106880" y="3429000"/>
            <a:ext cx="1224000" cy="2430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D-SDI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6218280" y="3365640"/>
            <a:ext cx="122544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.264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399520" y="5194440"/>
            <a:ext cx="1116000" cy="241200"/>
          </a:xfrm>
          <a:prstGeom prst="wedgeRectCallout">
            <a:avLst>
              <a:gd name="adj1" fmla="val -72300"/>
              <a:gd name="adj2" fmla="val 4304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6600" y="1311120"/>
            <a:ext cx="365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hen inserting CD(Installation CD), it starts automatical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681120" y="77796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5A41-661A-4E79-B2AC-CB0D2870BCD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182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7691-D76E-4B3B-98D0-4C2FEF7DBA1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204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210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5751-A436-4B8D-B7FC-44047786C6C0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35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8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719280" y="1292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Box 75"/>
          <p:cNvSpPr/>
          <p:nvPr/>
        </p:nvSpPr>
        <p:spPr>
          <a:xfrm>
            <a:off x="455760" y="723960"/>
            <a:ext cx="311760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prodect </cp:lastModifiedBy>
  <dcterms:modified xsi:type="dcterms:W3CDTF">2010-09-06T08:44:50Z</dcterms:modified>
  <cp:revision>1459</cp:revision>
  <dc:subject/>
  <dc:title>PowerPoint 프레젠테이션</dc:title>
</cp:coreProperties>
</file>