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07200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9A8-B4EF-40C3-8D4E-13248944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0F4-1B34-40A5-9CB3-E33963D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614-0523-4F09-A274-452EA7D9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BFE-F7A1-4836-84DD-AD0A1FB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23C-9108-438C-9427-45BC3F7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AF9-057A-4FFF-86A6-6E7A2D1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13B-0229-4176-B4CB-FD0B366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517-870E-4F2D-BB8E-FD27D92E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440" y="810720"/>
            <a:ext cx="582912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465-F586-407C-BF2F-9D59487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8B8-40C0-4A0D-9600-46E2072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9AD-47A3-4544-BD52-63E6BD6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E5B-E43C-4B5A-8FCD-115B312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292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2920"/>
            <a:ext cx="2171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4088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9494-93DC-4918-9A39-E9783AE193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6360" y="34920"/>
          <a:ext cx="1447920" cy="4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60" y="34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7560" y="900000"/>
            <a:ext cx="5761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Fingerprint Authent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Time &amp; Attendance System (FpWork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User’s guide (Ver 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8109000"/>
            <a:ext cx="5761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  Basic  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1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0280" y="900000"/>
            <a:ext cx="64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an set “off-day” only after registering off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ff-day means regular off-day (ex. Sunday). And it is different from holi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“Process option if work in” is how to process working time during ‘off-day’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Ignore working hours: Ignore attendance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daily working T&amp;A: Process it as usual working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off-day: Calculate every working time and add up into off-day working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7. Register off-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1366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Off-day registr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905280" y="349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10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DC5-8022-4FFE-B072-6551FFAE15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8. Register holi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8229600"/>
            <a:ext cx="3124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Holiday working registr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60280" y="900000"/>
            <a:ext cx="6408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t holiday only after registering holiday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for holiday T&amp;A set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Holiday have priority over off-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4920"/>
            <a:ext cx="29275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" name="공휴일근태" descr=""/>
          <p:cNvPicPr/>
          <p:nvPr/>
        </p:nvPicPr>
        <p:blipFill>
          <a:blip r:embed="rId1"/>
          <a:stretch/>
        </p:blipFill>
        <p:spPr>
          <a:xfrm>
            <a:off x="304920" y="3191040"/>
            <a:ext cx="6229080" cy="48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7F2-A2D8-49DE-9FF9-96F5D01DD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0280" y="97164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9. Register va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773360" y="414036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vac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844640" y="86756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business trip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33280" y="514656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-2700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0. Register Business tr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12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3581640" cy="3008160"/>
          </a:xfrm>
          <a:prstGeom prst="rect">
            <a:avLst/>
          </a:prstGeom>
          <a:ln w="0">
            <a:noFill/>
          </a:ln>
        </p:spPr>
      </p:pic>
      <p:pic>
        <p:nvPicPr>
          <p:cNvPr id="108" name="13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3657600" cy="30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B0F-C441-42B2-83D2-96AD991B01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set work schedule of chosen employ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etting Period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utton after setting period of T&amp;A schedu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put screen which is possible to input T&amp;A code directly is appear when you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double click the item or use right-side button of the mouse. Input T&amp;A cod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You can change the date by using up-down curso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mployees registered on employee list when you select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And select the employee. (Check all employees when you choose all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o save all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butt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The working schedule will not be saved before you save setting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.  Work schedul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060640" y="82296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partment T&amp;A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14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6319800" cy="469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C0D-AB0C-4518-A74D-8B693757D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0280" y="971640"/>
            <a:ext cx="633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lect T&amp;A mode by double-clicking the item or click the right-side butt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f the mouse when changing T&amp;A settin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very T&amp;A(working day, off-day, holiday, vacation, and business trip)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n combo b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– The code will be changed automatically when you select T&amp;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(The code is set as working day-1, off-day-2, holiday-3, vacation-4, busi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trip-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1. Choose T&amp;A on work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844640" y="457344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etting combo box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35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2. Register T&amp;A code directl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5796000"/>
            <a:ext cx="633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ve the input screen by clicking up-down cursor after the input scree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ppear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code which is input directly have priority over selected T&amp;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re will be an error if there’s something wrong with code like a unregistered cod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484280" y="843912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ode input screen on direct input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34340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6781680"/>
            <a:ext cx="49719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6CB-E478-4D34-8CC7-B0A05D20E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0280" y="971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unction to find specific department among all department organiz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all sub-department by clicking [+] tap in front of department n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only can see the department which is registered on department input menu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OK button after selecting department. (You can not choose ‘OK’ if you double-click i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3. Find Dep’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062080" y="679608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Dep’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17" descr=""/>
          <p:cNvPicPr/>
          <p:nvPr/>
        </p:nvPicPr>
        <p:blipFill>
          <a:blip r:embed="rId1"/>
          <a:stretch/>
        </p:blipFill>
        <p:spPr>
          <a:xfrm>
            <a:off x="2004840" y="2565360"/>
            <a:ext cx="2846520" cy="40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62C-A375-4CB3-90C5-C126FF33F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elect employee by running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Date setting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setting modifying period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finishing modify T&amp;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T&amp;A will not be changed unless you select “save”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.  Modify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060640" y="853452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modif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1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4510080" cy="65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9F5-6BC6-419E-83FF-034EFF23DE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0280" y="1185840"/>
            <a:ext cx="6264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employee number, name, social number of registered employe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and press o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arch employees who have same name by their social numb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98560"/>
            <a:ext cx="666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-1. Find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7924680"/>
            <a:ext cx="280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4286160" cy="46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7FE-E307-4671-9AB5-E381C6219B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280" y="1042920"/>
            <a:ext cx="633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mport process which import data from FP server database. This function should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preceded for T&amp;A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import attendance data. And the data will reflect modified contents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dministrator. Check “delete all modify data” if you don’t want to reflect modifi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ont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1.  Import entranc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5720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T&amp;A dat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60280" y="6012000"/>
            <a:ext cx="63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administrator can modify T&amp;A rec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Check employee name and period, and click “view data”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data and press delete button to delete records. The record will be initializ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261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2. Modify T&amp;A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20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4686480" cy="16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19B-925B-47F0-BA6D-8242957BE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0280" y="90000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e when you want to change T&amp;A information or when employee informatio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hang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on ‘Find employee’ menu. And process T&amp;A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4. Personal T&amp;A 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952880"/>
            <a:ext cx="319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21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565600" cy="2982960"/>
          </a:xfrm>
          <a:prstGeom prst="rect">
            <a:avLst/>
          </a:prstGeom>
          <a:ln w="0">
            <a:noFill/>
          </a:ln>
        </p:spPr>
      </p:pic>
      <p:pic>
        <p:nvPicPr>
          <p:cNvPr id="150" name="22" descr=""/>
          <p:cNvPicPr/>
          <p:nvPr/>
        </p:nvPicPr>
        <p:blipFill>
          <a:blip r:embed="rId2"/>
          <a:stretch/>
        </p:blipFill>
        <p:spPr>
          <a:xfrm>
            <a:off x="685800" y="5715000"/>
            <a:ext cx="556560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81C-2C17-4A4E-9DE2-DC1C96BB8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92280" y="34560"/>
            <a:ext cx="25210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964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11280"/>
            <a:ext cx="5977080" cy="83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. Arran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1. Register data (set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2. Modify data (change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1. Program outline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2. Environment setting 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. Register T&amp;A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. Register Department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. Register Position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. Register employee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. Register exception time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. Set exception time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6. Register Workday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7. Register off-day 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8. Register holyday 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9. Register vacation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0. Register business trip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1. Set T&amp;A schedule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2. Modify T&amp;A schedule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4. T&amp;A data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1. Import entrance data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2. Modify entrance data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3. All employee T&amp;A process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4. Personal T&amp;A process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5. T&amp;A summary   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6. Modify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7. Modify T&amp;A summary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5. T&amp;A output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. Periodic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2. Daily T&amp;A output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3. Personal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4. T&amp;A output summary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5. Absent employee output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6. Late employee output 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7. Leaving employee output 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8. Exit employee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9. Today late employee output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0. Employee info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1. T&amp;A schedule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2. Transmit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1. Delet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2. Sav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Additional inf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1 Main &amp; Extended program info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2 Client customizing info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3CE-6AD1-4D68-94BD-B9A709D9E1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280" y="900000"/>
            <a:ext cx="64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o sum up each item within the period as you set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ee data of one month automatically when you select the month which you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want to check. Data of one month is appear as you set on [setting configuration]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o set a period when you want to set specific period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5.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989000" y="44956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ummary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91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6. Modif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60280" y="5578560"/>
            <a:ext cx="6337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dify attendance and working time after T&amp;A summary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through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press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fter modification is finish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월단위처리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5886360" cy="18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981-9E3E-49A1-BD81-E1972D611B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6280" y="548640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2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148440" cy="430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080" y="6629400"/>
            <a:ext cx="49914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F71-6F19-4B87-825B-3CAE1D157C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30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7. Modify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60280" y="1819440"/>
            <a:ext cx="6337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ll T&amp;A summary will appear after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fter select period you want to summariz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information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changing item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56516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ummar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26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590544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573-0E59-4136-A8AF-EDE56787A3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280" y="1187280"/>
            <a:ext cx="6381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check T&amp;A output after selecting period when T&amp;A process is finish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data of specific employee when you appoint department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electing[Find Dept.]. It indicates data of employee in Sub-department categ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hen you clicking [include sub-dept.]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port function runs reporting tool which enable to change output data into pri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ormat or various forma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77724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iod T&amp;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" name="27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DA7-27C5-4F07-97BC-30DA13A514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6477120" cy="4889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73360" y="8459640"/>
            <a:ext cx="35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port pri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362320"/>
            <a:ext cx="936360" cy="504720"/>
          </a:xfrm>
          <a:prstGeom prst="wedgeRoundRectCallout">
            <a:avLst>
              <a:gd name="adj1" fmla="val -8476"/>
              <a:gd name="adj2" fmla="val 1512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973080"/>
            <a:ext cx="6310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port output data and enable to change format to printing format or etc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ndicates print menu of print function and export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1. Report prin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1152720" cy="503280"/>
          </a:xfrm>
          <a:prstGeom prst="wedgeRoundRectCallout">
            <a:avLst>
              <a:gd name="adj1" fmla="val -11296"/>
              <a:gd name="adj2" fmla="val 155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nu for moving 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352680"/>
            <a:ext cx="17272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362320"/>
            <a:ext cx="936720" cy="504720"/>
          </a:xfrm>
          <a:prstGeom prst="wedgeRoundRectCallout">
            <a:avLst>
              <a:gd name="adj1" fmla="val -80337"/>
              <a:gd name="adj2" fmla="val 15471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362320"/>
            <a:ext cx="936720" cy="504720"/>
          </a:xfrm>
          <a:prstGeom prst="wedgeRoundRectCallout">
            <a:avLst>
              <a:gd name="adj1" fmla="val -138981"/>
              <a:gd name="adj2" fmla="val 152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gnif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52680"/>
            <a:ext cx="201600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362320"/>
            <a:ext cx="1439640" cy="504720"/>
          </a:xfrm>
          <a:prstGeom prst="wedgeRoundRectCallout">
            <a:avLst>
              <a:gd name="adj1" fmla="val -103583"/>
              <a:gd name="adj2" fmla="val 143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formation of DB tab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40B-8017-4AF3-A4B5-1C75D554AD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28640" y="421164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int re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60280" y="973080"/>
            <a:ext cx="6310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nd output data to registered printer and print i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2. Print re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557360" y="830592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60280" y="5221440"/>
            <a:ext cx="6310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change output data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the form of destin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file name when you select ‘Disk file’, and press [OK]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Input file na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932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3. Ex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29-1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572000" cy="1931760"/>
          </a:xfrm>
          <a:prstGeom prst="rect">
            <a:avLst/>
          </a:prstGeom>
          <a:ln w="0">
            <a:noFill/>
          </a:ln>
        </p:spPr>
      </p:pic>
      <p:pic>
        <p:nvPicPr>
          <p:cNvPr id="192" name="30" descr=""/>
          <p:cNvPicPr/>
          <p:nvPr/>
        </p:nvPicPr>
        <p:blipFill>
          <a:blip r:embed="rId2"/>
          <a:stretch/>
        </p:blipFill>
        <p:spPr>
          <a:xfrm>
            <a:off x="1219320" y="6477120"/>
            <a:ext cx="4446360" cy="15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A7A-F99A-4C00-821E-F6399075BD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280" y="1042920"/>
            <a:ext cx="6310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data of all employee as selected T&amp;A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2. Dail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060640" y="378000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ily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635360"/>
            <a:ext cx="6524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3. Personal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205000" y="81532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0280" y="4923000"/>
            <a:ext cx="6337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personal output data of selected employe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647712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656748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CDF-A988-4C25-9922-DD70A4E5AC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4. T&amp;A output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916280" y="380988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output summar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60280" y="1042920"/>
            <a:ext cx="633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hows all T&amp;A data when you select the date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3440"/>
            <a:ext cx="65246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5. Absen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260280" y="4862520"/>
            <a:ext cx="633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absent employee. Press output after select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198440" y="86774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absen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77120" cy="164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609624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D46-E503-4968-ABDC-D87C802569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6. 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60280" y="1044720"/>
            <a:ext cx="633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268280" y="450072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148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7. Lef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" y="543708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eft employe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197000" y="8381880"/>
            <a:ext cx="47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715000" cy="304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6400800" cy="231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061-B18C-4EF9-8716-325E81B2F7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8. Exit employee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60280" y="898560"/>
            <a:ext cx="63374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list about working out of the offic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check [process exit time]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916280" y="428472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i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60280" y="5148360"/>
            <a:ext cx="6337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 until to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possible when the import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Be careful when on the import dat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9. Today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1989000" y="860256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oday late employee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6477120" cy="242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636264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572-CBD7-45BE-9746-395D38F803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8840" y="828720"/>
            <a:ext cx="641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need to set setting configuration before start the program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input password after setting passw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import process date” means the last date of entrance record which is imported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rom FPSERVE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attendance process date” means the final date of the last attendance process. – “Last attendance transfer date” means the final date of the last transfer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attendance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Monthly start date” means the start date of the month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Entrance mode” sets which mode needs to be certificated as an entr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f you select “Recognize correct entrance mode”, you can set the entrance ti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freely. It is convenient if you select “Recognize all entrance mode” since a us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don’t need to choose a mode every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teness allowing time” regard the lateness &amp; leaving early as a normal attend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n specific time (unit: minute) that you register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3716280" y="8077320"/>
            <a:ext cx="266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PWORK environment setting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964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-2. Setting Configur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789360" y="4213080"/>
            <a:ext cx="287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f there is not an attendance data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it will not be processed as late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or leaving early when it is regard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as basic attendance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whether you calculate pay money or not when you select calculate pay money. Select it when you need it to reduce process overflow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the settings by pressing [change]button after finishing environment chan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2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31020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4E5-B1F3-47C8-B7B0-E8D013A9E8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003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1. Print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989000" y="8244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print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60280" y="125568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king list and print all information of registered staff as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6840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0. Employee info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1989000" y="4282920"/>
            <a:ext cx="2808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mployee info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33360" y="5291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schedule of employee during specific perio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2600" y="1905120"/>
            <a:ext cx="5695920" cy="2247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95200" y="5881680"/>
            <a:ext cx="6334200" cy="21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54D-EFF4-48C7-8982-5D27A4BC36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2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60280" y="973080"/>
            <a:ext cx="64087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ransfer processed T&amp;A output and summary to external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DBC should be registered on “FpEmit” for external transferenc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eriod should be per month when select transferring T&amp;A output summar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date will be ignored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vious data registered on period that you select will be deleted before dat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ransferenc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5334120"/>
            <a:ext cx="357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ternal T&amp;A output transference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41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4606920" cy="172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99F-25DF-4EF7-9456-2FAD1AF72F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33720" y="586728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lete databas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260280" y="971640"/>
            <a:ext cx="63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elete previous data to reduce the size of database and make process time faster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– Please be careful to delete data since all entrance and T&amp;A data will be deleted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before deletion tim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ave data to check [delete after backup]. Refer to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6-2. Databas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backup]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1. Delet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7" name="42" descr=""/>
          <p:cNvPicPr/>
          <p:nvPr/>
        </p:nvPicPr>
        <p:blipFill>
          <a:blip r:embed="rId1"/>
          <a:stretch/>
        </p:blipFill>
        <p:spPr>
          <a:xfrm>
            <a:off x="838080" y="3235320"/>
            <a:ext cx="5326200" cy="24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D50-D1C0-4D75-8272-FE1635AE96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60280" y="971640"/>
            <a:ext cx="633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unction to backup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name of backup file will be saved on FpWork_DATE(8 digits).mdb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last database backup date will be today when you select [Save now]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2. Database backu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66294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tabase backup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백업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86440" cy="35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5EE-9F83-47DE-B750-653F0B8FC5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0280" y="97164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of main and extend dll program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. Main &amp; extend DLL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557360" y="65880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extend dll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1765440"/>
            <a:ext cx="6310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information and version of main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7000" y="1476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1. Main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645080"/>
            <a:ext cx="6310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and version of main program and extend dl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4280" y="4356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2. Extend DLL inf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6702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ain program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4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754520" cy="1096920"/>
          </a:xfrm>
          <a:prstGeom prst="rect">
            <a:avLst/>
          </a:prstGeom>
          <a:ln w="0">
            <a:noFill/>
          </a:ln>
        </p:spPr>
      </p:pic>
      <p:pic>
        <p:nvPicPr>
          <p:cNvPr id="263" name="45" descr=""/>
          <p:cNvPicPr/>
          <p:nvPr/>
        </p:nvPicPr>
        <p:blipFill>
          <a:blip r:embed="rId2"/>
          <a:stretch/>
        </p:blipFill>
        <p:spPr>
          <a:xfrm>
            <a:off x="914400" y="5257800"/>
            <a:ext cx="4892760" cy="113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5DE-4EA5-42E1-8EB9-5FF5605BB9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0280" y="1981080"/>
            <a:ext cx="633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department is used for data sorting and proc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2 digits number and the total will be 10 digits(20 digits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ub-department will be sorted by sorting code in departme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All department code is 20 digi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department code of an upper department will not be changed or delet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change department name is possibl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9236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. Register Depart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06440" y="900000"/>
            <a:ext cx="5975280" cy="57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ed information of T&amp;A program can output different result as cont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refore you need to understand it fully and do the registration proces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04640" y="8677440"/>
            <a:ext cx="2953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Dept.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60280" y="4067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ndicates employee position as a code for searching and sor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positions as the rule of your compan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0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2. Register Employee posi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789360" y="867744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 posi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213000" y="34920"/>
            <a:ext cx="36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1"/>
          <a:stretch/>
        </p:blipFill>
        <p:spPr>
          <a:xfrm>
            <a:off x="304920" y="5181480"/>
            <a:ext cx="3200400" cy="3351240"/>
          </a:xfrm>
          <a:prstGeom prst="rect">
            <a:avLst/>
          </a:prstGeom>
          <a:ln w="0">
            <a:noFill/>
          </a:ln>
        </p:spPr>
      </p:pic>
      <p:pic>
        <p:nvPicPr>
          <p:cNvPr id="64" name="4" descr=""/>
          <p:cNvPicPr/>
          <p:nvPr/>
        </p:nvPicPr>
        <p:blipFill>
          <a:blip r:embed="rId2"/>
          <a:stretch/>
        </p:blipFill>
        <p:spPr>
          <a:xfrm>
            <a:off x="3733920" y="5181480"/>
            <a:ext cx="2928960" cy="33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2C7-0F82-4793-AC07-51C973EFC8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280" y="971640"/>
            <a:ext cx="633744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gister all employees by their employee number, name, social numb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, posi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all employees since data of unregistered employee will not be processed. - You can output pay money by inputting payment per hou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But you need to select “Calculate pay money” in Environment setting menu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.  Register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060640" y="74534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5" descr=""/>
          <p:cNvPicPr/>
          <p:nvPr/>
        </p:nvPicPr>
        <p:blipFill>
          <a:blip r:embed="rId1"/>
          <a:stretch/>
        </p:blipFill>
        <p:spPr>
          <a:xfrm>
            <a:off x="228600" y="3591000"/>
            <a:ext cx="637236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06D-02AA-4F98-B4EB-170BBD0AB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0280" y="971640"/>
            <a:ext cx="6337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shows the employee who is registered on FPSERVER but is not registered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PWO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f you select “Use FP ID as an employee no.”, an employee number will be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ame as a registered FP 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-1. Import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789360" y="34920"/>
            <a:ext cx="3024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060640" y="781200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employee inform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6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4486320" cy="51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CE2-CE73-48E7-BA8B-01A1742FE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ception time means time which is excepted for specific time when you calcul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[except from time1~ to time2], [except time1 after time2]. And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ime1, time2 will be different as your cho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from time1 to time2: except from time1 to time2 in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working time1 to time2:  except time2 period after time1 since start work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4. Register Exception Ti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7696080"/>
            <a:ext cx="33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xception tim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7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5132520" cy="42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FA0-9D53-479A-A81C-22EE1D157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0280" y="971640"/>
            <a:ext cx="6337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s used for register working day, off-day, and holi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in-time zone” and “out-time zone” is a setting to set attendance time zone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leaving time zone. And the time which is not in those time zone will not be regar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-time zone : time zone which is regarded as attendance. And the initial entr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n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out-time zone : time zone which is regarded as a leaving time. And the final leav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 leav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time : the working time should be within in-time zone, and it is calcul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chosen option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ion time : It will be excepted as chosen exception time. (you can choose u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5 option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5. T&amp;A tim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84582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time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8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4651560" cy="45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032-1475-49D0-BE7A-54050CB08E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register working day only after setting working 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code will be 4 digits of number and English charac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name will appear in working name when you print i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to set working day T&amp;A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daily work, holiday, off-day, vacation, business trip should be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6. Register daily 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register daily work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9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BB3-C228-4A98-A210-BAA68815F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6T10:44:21Z</dcterms:modified>
  <cp:revision>278</cp:revision>
  <dc:subject/>
  <dc:title>PowerPoint 프레젠테이션</dc:title>
</cp:coreProperties>
</file>