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5FF-E216-49D3-9474-176EBFDA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9AA-AAEE-42F9-8DD9-6417606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294-EB2D-41C6-8988-85CBEB7A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3FC-7936-4C59-A4E1-2904152B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BD2-F528-422E-90D2-94783E3F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806-D932-4115-A293-4ADBF8A9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46B-1F44-49DA-B231-7B049A78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AFA-3CF5-4902-8A1E-5B75E13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629-CF15-4D79-A6DA-33DD6EA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B52-F831-4CD1-943C-F5C64DB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9D4-6A9D-488D-9787-D1E9740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9EC-F767-4B93-9095-C6A4375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390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933F-0BFD-4714-A835-1DE7FEADD2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60280" y="901800"/>
            <a:ext cx="6337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Fingerprint Time&amp;Attendance System(FpWork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Installation Guide(Ver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627516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3360" y="1116000"/>
            <a:ext cx="6219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art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put Program Installation CD to CD_ROM driv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 screen will appear after Setup.exe is proces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program as checking step-by-step process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505320"/>
            <a:ext cx="600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44640" y="808344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3352680"/>
          <a:ext cx="5790960" cy="43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352680"/>
                    <a:ext cx="5790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794-5267-4AF0-A778-4334E5979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73360" y="779616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icense agreeme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52520" y="1332000"/>
            <a:ext cx="5929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icense Agre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heck thoroughly since this agreement has the same effect as Program Use agreement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[Yes] if you agree with contents. It will finish install if you disagre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3075120"/>
          <a:ext cx="563868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75120"/>
                    <a:ext cx="56386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FAD-D7F4-4C75-8DCD-B6CB6C5CD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program installation pa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et install location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 [Browse…] and choose the location to install program in other loc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move next step after installation location is se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815328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 path setting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327672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06D-D103-4FEE-A31F-2FC6970D1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ogram Installa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py files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lease wait until the process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ation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294156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4156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91924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BC5-2189-488C-822A-7A4090681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nish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&amp;A program install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Refer to the user’s guide for program u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ish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808360"/>
          <a:ext cx="5790960" cy="435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08360"/>
                    <a:ext cx="57909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F72-8E8D-405C-A390-1062F6E1B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213000" y="152280"/>
            <a:ext cx="318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tart-&gt;T&amp;A Program-&gt;remove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Fp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All set program will be remov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Back up data to preserve existing databas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829944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removal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3276720"/>
          <a:ext cx="563904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6390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866-CADD-406C-99B2-4242D4626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34:51Z</dcterms:modified>
  <cp:revision>48</cp:revision>
  <dc:subject/>
  <dc:title>PowerPoint 프레젠테이션</dc:title>
</cp:coreProperties>
</file>